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1682-6F0F-4056-A1A4-B2813DF788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B372-B04C-48D8-8836-6D4FD87088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FC0B-E2A5-46A8-8EE5-001041AC7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48F9-49CB-40C1-8312-F39C57F8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64F3-32C5-455C-AA8A-85DCFAF3A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2C5C-C00C-44DB-A9D7-D60CF6067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836B-7A99-43A4-A929-23293D12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CB18-C7CB-479C-97B1-3789907C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C2FE-5CC2-444F-A2DE-AEDF646D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0986-2877-4EF1-A8D1-A07DDA89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1489-B206-44AB-8858-5A904D3C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C54A-4CF7-4CBE-AD27-90AFD79E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6F17-A5BC-4BEF-ADBA-A86720F4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1AA9-E708-4894-997F-190BDFCF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15E1-F15E-47E1-BAFE-816BDA16D4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5T09:27:21Z</dcterms:created>
  <dc:creator>Viktor R.</dc:creator>
  <dc:description/>
  <dc:language>en-US</dc:language>
  <cp:lastModifiedBy>Viktor R.</cp:lastModifiedBy>
  <dcterms:modified xsi:type="dcterms:W3CDTF">2015-09-05T09:27:59Z</dcterms:modified>
  <cp:revision>1</cp:revision>
  <dc:subject/>
  <dc:title>PowerPoint Presentation</dc:title>
</cp:coreProperties>
</file>