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E0253-8CBB-4371-BC94-E92306AA26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6790-DF05-422D-9A2C-CA021AEF23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7130-B506-4C7C-8A5D-079E0CAB7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A34B-637E-438B-AFC0-461A71B3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4831-DAFB-4065-ADAB-8D91524E0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A2CC-1252-4968-BB11-5104A09D6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1301-613B-4C1F-B4EB-9E827E816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738B-394F-49DC-8745-A7196A21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B1DB-36BC-4BF4-8715-7B28AE1F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B79-A9D4-47AA-AB3C-ED110B1D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8EB6-D09A-439F-B0FA-D4CCF1C0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7F10-DF22-45EF-A394-FFDF7492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89D6-79EC-4533-B040-2F61E829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40CA-6682-4847-9203-C1D67AB8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9DAB-2648-4580-A153-9F4D12A96C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5T09:27:21Z</dcterms:created>
  <dc:creator>Viktor R.</dc:creator>
  <dc:description/>
  <dc:language>en-US</dc:language>
  <cp:lastModifiedBy>Viktor R.</cp:lastModifiedBy>
  <dcterms:modified xsi:type="dcterms:W3CDTF">2015-09-05T09:27:59Z</dcterms:modified>
  <cp:revision>1</cp:revision>
  <dc:subject/>
  <dc:title>PowerPoint Presentation</dc:title>
</cp:coreProperties>
</file>